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8FD-635C-4F5B-8ED3-A684709F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691-3233-40F3-A83D-9B8D3A3E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551-22DC-4BBD-8438-561987AF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BDF-642B-4BAD-A54D-462EF7E0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300-69BB-4A34-A00C-CB31D8B8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FAA-943F-42C3-8E93-5E439837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076-E951-48A9-88B3-A7B8CA06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4F6-7148-4109-A264-164F49B8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46B-817E-4E54-B03E-B2B4ED3E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0C1-50B2-47D5-9B8C-FF9445BC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D71-A3C6-4EFE-81A8-1C93472D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A59-7741-4FC9-B2F2-286AD379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6BC0-EAF2-47E4-8CB5-5824CB31B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066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Christmas in English</a:t>
            </a:r>
            <a:br>
              <a:rPr sz="5400"/>
            </a:b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Speaking Count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32360" y="5084640"/>
            <a:ext cx="474336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Kutukova Ta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From 9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544840"/>
            <a:ext cx="5940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066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Christmas in English</a:t>
            </a:r>
            <a:br>
              <a:rPr sz="5400"/>
            </a:b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Speaking Count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32360" y="5084640"/>
            <a:ext cx="474336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Kutukova Ta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From 9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544840"/>
            <a:ext cx="5940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851960" cy="454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4941720"/>
            <a:ext cx="87328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most popular holiday in Great Britain, Canada and the USA is Christmas. People celebrate Christmas on the 25</a:t>
            </a:r>
            <a:r>
              <a:rPr b="1" i="1" lang="en-US" sz="20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of December. There are a lot of traditions  connected with Christmas. Every year the people of Norway  give the city of London a present. It is a big Christmas tree and it is placed in the centre of Trafalgar Squ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390852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Most families decorate their houses with a Christmas tree, buy gifts for all members of the family and for their friends, and send lots of Christmas cards. Almost every family receives about 20-30 Christmas cards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in England.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160960" cy="4403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673520"/>
            <a:ext cx="87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4724280"/>
            <a:ext cx="8640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People make Christmas puddings on the eve of Christmas. All the family stir the pudding and make a wish. When the pudding is still hot, they put 5-penny coins in it and sometimes little silver charms – a horseshoe, a button or a ring. A 5-penny coin means you are going to have money next year, the horseshoe brings good luck, the ring means a wedding. The button means you  are not going to get marr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588440" cy="4562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7480" y="4529160"/>
            <a:ext cx="86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480" y="4529160"/>
            <a:ext cx="87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5013360"/>
            <a:ext cx="88772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Parents  prepare Christmas crackers usually if there are children in the family. When you pull them, they make a bang and there is a paper hat usually, a small toy or a piece of paper with a joke in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177320" cy="538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48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45000"/>
            <a:ext cx="8877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Certainly Christmas is the most popular and favorite holiday of a year in all English-speaking countries and in many other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55640" y="765000"/>
            <a:ext cx="784872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Cheerful Christmas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4769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8:36:17Z</dcterms:created>
  <dc:creator>Кутуковы</dc:creator>
  <dc:description/>
  <dc:language>en-US</dc:language>
  <cp:lastModifiedBy>Кутуковы</cp:lastModifiedBy>
  <dcterms:modified xsi:type="dcterms:W3CDTF">2009-12-18T20:38:03Z</dcterms:modified>
  <cp:revision>2</cp:revision>
  <dc:subject/>
  <dc:title>Christmas in English Speaking Countries</dc:title>
</cp:coreProperties>
</file>